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7790-CEE8-4738-971F-B03D035D41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1D4B-B310-452C-A2A2-0E6DBECF9E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C7D7-9531-487C-80EF-5A4BB93777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913C-EC0A-493D-82AE-2C83F8A9D8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3CF5-ED95-476B-9CBB-F8D91CC190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A72C-4AD1-48B5-9C8C-85BBFDEE7F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08D6-24EB-4336-9907-159C192736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3818-F4B3-4032-B23D-5242F78EBA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DF2B-3408-435D-A76D-AA9C52AA6B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3034-E31C-4FB9-AEA4-5C18EB6CFF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0007-C108-4C66-988A-978BE58599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CE8-678D-49B7-961A-13C06843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4F6-612E-4AF9-9C64-B680580B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12E-8BBA-4387-9125-CB1FFF1D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173-CC9E-48DC-8A7D-AC21EF55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D39-0A63-420E-97D8-34DA7270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209-C269-4249-B2B1-C5274B1C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B86-B712-465E-A3C4-CCF2AE40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AF7-2161-499F-B4D3-D8F5C042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4AA-77FB-44A4-A999-D7641D34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EFC-AE64-4017-8FEA-D5F48B0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D5D-A299-4E20-84CE-179A9907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83B-8F9F-4490-9FE7-9D747AF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7436-F0E0-4EB5-B0B6-1829FE396BA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971640" y="1484280"/>
            <a:ext cx="705636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-A-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99"/>
                </a:solidFill>
                <a:latin typeface="Times New Roman"/>
              </a:rPr>
              <a:t>MEDIACIÓ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RESENTIMIE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Qué ha pasado, que te ha molestad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Por escrito u 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Requiere tiempo y escucha activa</a:t>
            </a:r>
            <a:r>
              <a:rPr b="0" lang="es-ES" sz="20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d0d0d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RECONOCIMIENTO-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Que has hecho tu que haya podido moles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Normalmente requiere ay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Es útil confro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d0d0d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d0d0d"/>
                </a:solidFill>
                <a:latin typeface="Arial"/>
              </a:rPr>
              <a:t>RECONCIL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d0d0d"/>
                </a:solidFill>
                <a:latin typeface="Arial"/>
              </a:rPr>
              <a:t>Que puedes hacer para resolver y ayudar a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RESTABLECER LA RELA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0" y="0"/>
            <a:ext cx="2219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Nd9GcS5HSKIQU4zSPuHQHPY7V3G_2FXWtEQwF2h5M55W6Le8NolvH5ARrQv94-B"/>
          <p:cNvPicPr/>
          <p:nvPr/>
        </p:nvPicPr>
        <p:blipFill>
          <a:blip r:embed="rId1"/>
          <a:stretch/>
        </p:blipFill>
        <p:spPr>
          <a:xfrm>
            <a:off x="900000" y="1557360"/>
            <a:ext cx="7488360" cy="498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330033"/>
                </a:solidFill>
                <a:latin typeface="Times New Roman"/>
              </a:rPr>
              <a:t>3 A:</a:t>
            </a: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 atención, ayudas y acuerdos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98" name="Organization Chart 3"/>
          <p:cNvGrpSpPr/>
          <p:nvPr/>
        </p:nvGrpSpPr>
        <p:grpSpPr>
          <a:xfrm>
            <a:off x="395280" y="1879200"/>
            <a:ext cx="8229240" cy="3030840"/>
            <a:chOff x="395280" y="1879200"/>
            <a:chExt cx="8229240" cy="303084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7462800" y="3275640"/>
              <a:ext cx="144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1"/>
              <a:endCxn id="104" idx="2"/>
            </p:cNvCxnSpPr>
            <p:nvPr/>
          </p:nvCxnSpPr>
          <p:spPr>
            <a:xfrm rot="10800000">
              <a:off x="3601440" y="3275640"/>
              <a:ext cx="124200" cy="13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1"/>
              <a:endCxn id="104" idx="2"/>
            </p:cNvCxnSpPr>
            <p:nvPr/>
          </p:nvCxnSpPr>
          <p:spPr>
            <a:xfrm rot="10800000">
              <a:off x="3601440" y="3275640"/>
              <a:ext cx="124200" cy="51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8" idx="1"/>
              <a:endCxn id="109" idx="2"/>
            </p:cNvCxnSpPr>
            <p:nvPr/>
          </p:nvCxnSpPr>
          <p:spPr>
            <a:xfrm rot="10800000">
              <a:off x="1027800" y="3275640"/>
              <a:ext cx="124200" cy="13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2"/>
            <p:cNvCxnSpPr>
              <a:stCxn id="111" idx="1"/>
              <a:endCxn id="109" idx="2"/>
            </p:cNvCxnSpPr>
            <p:nvPr/>
          </p:nvCxnSpPr>
          <p:spPr>
            <a:xfrm rot="10800000">
              <a:off x="1027800" y="3275640"/>
              <a:ext cx="124200" cy="51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33"/>
            <p:cNvCxnSpPr>
              <a:stCxn id="101" idx="0"/>
              <a:endCxn id="113" idx="2"/>
            </p:cNvCxnSpPr>
            <p:nvPr/>
          </p:nvCxnSpPr>
          <p:spPr>
            <a:xfrm flipV="1" rot="16200000">
              <a:off x="5871600" y="1227960"/>
              <a:ext cx="229320" cy="295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4"/>
            <p:cNvCxnSpPr>
              <a:stCxn id="104" idx="0"/>
              <a:endCxn id="113" idx="2"/>
            </p:cNvCxnSpPr>
            <p:nvPr/>
          </p:nvCxnSpPr>
          <p:spPr>
            <a:xfrm flipH="1" flipV="1" rot="5400000">
              <a:off x="3941640" y="2250000"/>
              <a:ext cx="229320" cy="909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35"/>
            <p:cNvCxnSpPr>
              <a:stCxn id="109" idx="0"/>
              <a:endCxn id="113" idx="2"/>
            </p:cNvCxnSpPr>
            <p:nvPr/>
          </p:nvCxnSpPr>
          <p:spPr>
            <a:xfrm flipH="1" flipV="1" rot="5400000">
              <a:off x="2654640" y="963360"/>
              <a:ext cx="229320" cy="3482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3421080" y="1879200"/>
              <a:ext cx="2178000" cy="711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LAS 3 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7"/>
            <p:cNvSpPr/>
            <p:nvPr/>
          </p:nvSpPr>
          <p:spPr>
            <a:xfrm>
              <a:off x="395280" y="2819160"/>
              <a:ext cx="126684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99"/>
                  </a:solidFill>
                  <a:latin typeface="Arial"/>
                </a:rPr>
                <a:t>ATEN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>
              <a:off x="2968560" y="2819160"/>
              <a:ext cx="126684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YUD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9"/>
            <p:cNvSpPr/>
            <p:nvPr/>
          </p:nvSpPr>
          <p:spPr>
            <a:xfrm>
              <a:off x="6828120" y="2819160"/>
              <a:ext cx="126720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CUER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40"/>
            <p:cNvSpPr/>
            <p:nvPr/>
          </p:nvSpPr>
          <p:spPr>
            <a:xfrm>
              <a:off x="1152360" y="3504960"/>
              <a:ext cx="2325600" cy="58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I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 que está haciendo algo bi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41"/>
            <p:cNvSpPr/>
            <p:nvPr/>
          </p:nvSpPr>
          <p:spPr>
            <a:xfrm>
              <a:off x="1152360" y="4329000"/>
              <a:ext cx="2325600" cy="58104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G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agonismo de los disrup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42"/>
            <p:cNvSpPr/>
            <p:nvPr/>
          </p:nvSpPr>
          <p:spPr>
            <a:xfrm>
              <a:off x="3725640" y="3504960"/>
              <a:ext cx="2325960" cy="58104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or/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utoría entre igu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43"/>
            <p:cNvSpPr/>
            <p:nvPr/>
          </p:nvSpPr>
          <p:spPr>
            <a:xfrm>
              <a:off x="3725640" y="4329000"/>
              <a:ext cx="2325960" cy="58104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9520" rIns="2952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mili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lement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44"/>
            <p:cNvSpPr/>
            <p:nvPr/>
          </p:nvSpPr>
          <p:spPr>
            <a:xfrm>
              <a:off x="6298920" y="3504960"/>
              <a:ext cx="2325600" cy="581040"/>
            </a:xfrm>
            <a:prstGeom prst="roundRect">
              <a:avLst>
                <a:gd name="adj" fmla="val 16667"/>
              </a:avLst>
            </a:prstGeom>
            <a:solidFill>
              <a:srgbClr val="fff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880" rIns="3888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TUD FLEXI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776005_1024x1024"/>
          <p:cNvPicPr/>
          <p:nvPr/>
        </p:nvPicPr>
        <p:blipFill>
          <a:blip r:embed="rId1"/>
          <a:stretch/>
        </p:blipFill>
        <p:spPr>
          <a:xfrm>
            <a:off x="574560" y="-819000"/>
            <a:ext cx="8569440" cy="8569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755640" y="6155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Ignorar la conducta no a el niño y antes o después tiene que cumplir la orden, no se puede salir con la suy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7812000" y="5157720"/>
            <a:ext cx="433440" cy="576360"/>
          </a:xfrm>
          <a:prstGeom prst="downArrow">
            <a:avLst>
              <a:gd name="adj1" fmla="val 50000"/>
              <a:gd name="adj2" fmla="val 33243"/>
            </a:avLst>
          </a:prstGeom>
          <a:solidFill>
            <a:srgbClr val="33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219640" y="5877000"/>
            <a:ext cx="3600360" cy="287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33"/>
                </a:solidFill>
                <a:latin typeface="Arial"/>
              </a:rPr>
              <a:t>Refuerzo conductas incompat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Times New Roman"/>
              </a:rPr>
              <a:t>CESTO A</a:t>
            </a:r>
            <a:br>
              <a:rPr sz="2000"/>
            </a:br>
            <a:r>
              <a:rPr b="1" lang="es-ES" sz="2000" spc="-1" strike="noStrike">
                <a:solidFill>
                  <a:srgbClr val="330033"/>
                </a:solidFill>
                <a:latin typeface="Times New Roman"/>
              </a:rPr>
              <a:t>Conductas de agresión o que suponen riesgos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635280" y="40428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TITUD ADECU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tener la cal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o escalar los confli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uscar ayuda si es neces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SICIÓN DE  MEDIDAS INMEDI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s medidas inmediatas deben buscar la prevención de riesgos para el propio alumno y sus compañ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paración física de los implicados,  interponerse  físicamente, indicar  donde  dirigi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i se ve conveniente imponer la salida de la situación  a un  lugar para tranquiliza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vorecer la aceptación de las medidas, indicando  su objetivo y duración: necesitas calmarte,  podrás volver  en 10 minutos… No es un castigo, sino lo adecuado en ese mo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LM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lajación, respiración profunda, relato escrit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QUÉ HACER SI LA SITUACIÓN NO SE RECONDU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monestación  privada: final de la clase o fuer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todología del caso ( ver adju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ordatorio de consecuencia: señales discriminatorias como tarjeta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¿Cómo reconocerla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Hay agresiones  cuyo objeto es  lesionar, vengar o castigar  y que suponen riesgo por escalada, intensidad o falta de control de las consecuencias, “ no tenía intención… 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ambién hay interacción verbal y física que  sin implicar riesgo  de lesión son molestas , desagradables o simplemente rechazadas por los receptores. Estarían más  próximas a una intervención propia del cesto B : metodología del ca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ún no siendo  agresiones entraría en este cesto aquellas disrupciónes  que por  su intensidad  duración  y  frecuencias  alterara tan grandemente la rutina del aula que  perjudicaría de forma  extrema  el aprendizaje del alumno y  los derechos de sus compañeros, al punto de requerir medidas disciplinari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La perspectiva  del propio  alumno/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Si no se trata de un problema de autocontrol, incluso asociado a alguna patología será más bien un problema de conflicto  de intereses y valores  que le lleva a no  identificarse  con  los objetivos y normas del aula, rechazando los normas más elementales y traspasando los límites básicos de la convivenc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0033"/>
                </a:solidFill>
                <a:latin typeface="Times New Roman"/>
              </a:rPr>
              <a:t>CESTO B</a:t>
            </a:r>
            <a:br>
              <a:rPr sz="2000"/>
            </a:br>
            <a:r>
              <a:rPr b="1" lang="es-ES" sz="2000" spc="-1" strike="noStrike">
                <a:solidFill>
                  <a:srgbClr val="330033"/>
                </a:solidFill>
                <a:latin typeface="Times New Roman"/>
              </a:rPr>
              <a:t>Conductas de negación -oposición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CTITUD ADECUA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Tratar de influir positivamente en la conducta del alumno ajustándola a unos mínimos, no de someterl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Le respetaremos de palabra, forma y acción,  demandando reciprocidad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Daremos ejemplo positivo de  control emocional, relajación y humor, diálogo y afrontamiento eficaz de las situaci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Generaremos expectativas positivas para el futuro en relación a situaciones parecidas, valorando los cambios positivos y la contribución del alumno a la mejora de la situa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EMPATÍ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onerse en la perspectiva del alumno/a, comprendiendo  las motivaciones y necesidades que le afectan puntualmen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Ajustar nuestras demandas no  a lo deseable, lo “normal”, sino a lo posible  y realista en ese momen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DEFINIR EL PROBLEM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Referencia a las normas, derechos de los demás y  obligaciones del adulto en relación al grup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Uso de mensajes yo para expresar preocupaciones, expectativas y demandas propias del profesor/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NEGOCI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Ofrecer alternativas de conducta aceptabl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Pedir  propuestas de solución, si no acepta las nuestr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Llegar a acuer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¿QUÉ HACER SI LA SITUACIÓN NO SE RECONDUC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monestación  privada: final de la clase o fuera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Metodología del caso ( ver adjunt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Recordatorio de consecuencia: señales discriminatorias como tarjetas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¿Cómo reconocerl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onducta del alumno/a  es incompatible con su actividad académica, distrae la atención de la clase, interrumpe la marcha de las actividades,  genera tensión  en la relación  profesor alum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mbién te ayudarán los siguientes criter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ecuencia: reiteración y persist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ación: prolongada, de minu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ensidad: moderada (todo es relativ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La perspectiva  del propio  alumno/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 estas conductas el alumno trata de dar satisfacción a  motivaciones internas por delante de las requerimientos de la situación de a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alumno/a intenta evitar  alguna situación, busca iniciar actividades , distraer y captar la atención del profesor para cambiar el curso de la c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problemática de hjperactividad, impulsividad  o inatención son  moderadas o intensa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33"/>
                </a:solidFill>
                <a:latin typeface="Times New Roman"/>
              </a:rPr>
              <a:t>CESTO C </a:t>
            </a:r>
            <a:br>
              <a:rPr sz="1800"/>
            </a:br>
            <a:r>
              <a:rPr b="1" lang="es-ES" sz="1800" spc="-1" strike="noStrike">
                <a:solidFill>
                  <a:srgbClr val="330033"/>
                </a:solidFill>
                <a:latin typeface="Times New Roman"/>
              </a:rPr>
              <a:t>Conductas sin riesgo que no generan problemas importantes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GNORAR: consiste en seguir con la actividad  en curso sin reaccionar ante la condu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ambién es necesario  que los compañeros/as del alumno/a no refuercen la conducta, lo que requiere tutorizar en ese sent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 puede instigar el autocontrol del alumno/a media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rol posicional, colocarse cerc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ordar la norma en positiv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presar en positivo la conducta que esperamo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dirigir la atención hacia aspectos relev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ar oportunidades de participación en pos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dicar privadamente los efectos de la conducta sobre la clase,  presuponiendo  falta de conciencia de estar molest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ñales  auditiva o visuales ( contar hasta tres, ¿sigo?, ¡ya!, nombrar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ar tiempo de reacción y ajuste sin  mostrar impaciencia ni reaccionar ante aspectos form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otenciar el autocontrol  manifi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xpresar al alumno/a nuestra percepción de su  autocontrol, adecuación y esfuerzo de forma obje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alorarlo privadamente, comunicárselo a la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emiar con descansos y actividades preferidas t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¿Cómo reconocerl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guntaté que pasaría si lo ignoro y  continúo con mi actividad? Si la respuesta es nada, desaparecerá rápidamente … lo mejor es ignor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mbién te ayudarán los siguientes criter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ecuencia: son conductas aisl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ación: breve, de 1 a 10 s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ensidad: leve (todo es relativ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La perspectiva  del propio  alumno/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trata de pequeñas válvulas de escape, pero quiere y siente que se  autocontrola y ajusta suficientemente al contexto , los requerimientos y las nor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problemática de hjperactividad, impulsividad  o inatención son  le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motivaciones internas: malestar, inapetencia, fatiga, búsqueda de  estimulación y diversión, temor, ¡demanda de atención o ayuda, conflictos, enfados…  no le impiden la adap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3R_logo"/>
          <p:cNvPicPr/>
          <p:nvPr/>
        </p:nvPicPr>
        <p:blipFill>
          <a:blip r:embed="rId1"/>
          <a:stretch/>
        </p:blipFill>
        <p:spPr>
          <a:xfrm>
            <a:off x="1187280" y="0"/>
            <a:ext cx="6913800" cy="678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RESOLUCIÓN DE CONFLIC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ANd9GcQwtxePzLBegCLbZ1CcGXqtr1xIkOM7b8aM17uYUTkdV_Hs1uLDP6H6dsMO1Q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476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7:22:59Z</dcterms:created>
  <dc:creator>Usuario</dc:creator>
  <dc:description/>
  <dc:language>en-US</dc:language>
  <cp:lastModifiedBy>Juan</cp:lastModifiedBy>
  <dcterms:modified xsi:type="dcterms:W3CDTF">2012-10-01T20:39:48Z</dcterms:modified>
  <cp:revision>97</cp:revision>
  <dc:subject/>
  <dc:title>E.A.C.</dc:title>
</cp:coreProperties>
</file>